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72E-BB62-4F4E-8DE6-444CFD60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449-9E93-4B12-9CC9-3774D761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4E9-0E27-4FD1-909A-750F6873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DE3-7ED7-4737-9133-8D93E05D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4A8-B6B6-4315-8932-CAF5844C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684-8F93-4400-8D91-3EF54274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4D8-7087-4545-92D1-81E035E4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B3B-4EBC-4141-8C1A-9B0866F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D24-5617-48F5-9DCB-E179303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912-B8AC-4AE5-A7E2-132AB72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80A-D9A9-4FA9-8ED5-6D0F1377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5F1-29FD-41A1-85BF-756CF13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C24-F097-4FC7-8A4D-66FB2A44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 .G.  FLEMING                                      J.  G.  FLEMING                                 J. G.  FLEMING                                    INCHINNAN                                        INCHINAN                                     INKERM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KERMAN                                               INKERMAN                             INKERMAN  100TH                             INKERMAN  125TH                      JOHNSTONE  MUNICIPAL                JOHNST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                                        JOHNSTONE                                        KILBARCHAN                                   KILBARCHAN                                     LILLYBANK                       LILLY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WOOD                                            LINWOOD  100TH                   LOCHFIELD  JUNIORS  PUBLIC              LOCHFIELD  JUNIORS                LOCHFIELD  JUNIORS  25TH           LOCHWINNO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1616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1989000"/>
            <a:ext cx="1243080" cy="112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13240" y="1628640"/>
            <a:ext cx="1206720" cy="1508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969240" y="213372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8337600" y="2133720"/>
            <a:ext cx="1023840" cy="103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350028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289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800520" y="357336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457960" y="3573360"/>
            <a:ext cx="98712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040520" y="3789360"/>
            <a:ext cx="951120" cy="914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8265960" y="3357720"/>
            <a:ext cx="1225800" cy="1339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776160" y="5877000"/>
            <a:ext cx="586080" cy="622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360520" y="5445000"/>
            <a:ext cx="9511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3873600" y="544500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5384880" y="5229360"/>
            <a:ext cx="124308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7184880" y="5661000"/>
            <a:ext cx="83196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8408880" y="52293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8337600" y="620640"/>
            <a:ext cx="969840" cy="85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897600" y="47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5313240" y="47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3800520" y="47628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2289240" y="549360"/>
            <a:ext cx="987480" cy="923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631800" y="404640"/>
            <a:ext cx="10238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20:45:34Z</dcterms:created>
  <dc:creator>JOHN YOUNG</dc:creator>
  <dc:description/>
  <dc:language>en-US</dc:language>
  <cp:lastModifiedBy>JY</cp:lastModifiedBy>
  <dcterms:modified xsi:type="dcterms:W3CDTF">2008-01-01T19:16:45Z</dcterms:modified>
  <cp:revision>40</cp:revision>
  <dc:subject/>
  <dc:title>No Slide Title</dc:title>
</cp:coreProperties>
</file>